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274-86B6-413B-BAAE-3752ABA1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6CF-41EB-4105-9AA9-9A859331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45D-BBC5-4384-B549-4809D11F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E4F-F804-4F9C-9FD2-2437CE88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ABCB-0C6B-4500-86C2-972609E9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3DA3-96DF-4BEB-9C63-3B38106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7BFE-F2FC-4C4D-B008-6D61F2FE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BE7-F3EE-4277-BDC2-624FC346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3097-ABE8-4541-B697-1BC46DD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E864-71BD-4105-B40A-8A13A260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BA8E-82EA-4341-A4A7-285A460D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6A1-8224-48FA-89B7-5111476D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E3E1-B0DB-46DF-898F-EA7A8318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2C43-5527-4658-B172-0587C235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B681-B255-4FDE-8023-0FFCF136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C878-A183-4154-8253-C121943B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56C9-CC22-4B95-93E9-09A44A6F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9EC-96A0-4D44-AD05-E02FA160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F74-434C-4CCB-AE81-0C9F2AC0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1E2-ACB8-4E73-87A5-938F97D5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503-3682-4F1E-9063-3DFA9363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7C3-71FA-45A4-AE76-44E0C963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BE6-F508-4BD0-ABE1-B07F0D5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8A3-5B66-47C4-99B7-D4744E4A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F5B4-195F-4416-BA80-62AD95285B6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56F2-BF11-4253-910A-E3FAA0943EC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5640" y="4005360"/>
            <a:ext cx="514836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قلباً فادي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8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ُرضي جلالَ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َ يسوع المجي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3280" y="210816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عودُ إن رأى جمالَ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ِن هذه الدنيا سَعي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نزي خيري حظِّي حياتي مجدي أي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حرَ الصلا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62360" y="217980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اقَت نفس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يكَ تأت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َبها م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ِلمِك السماح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1280" y="191628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إقبَلني ف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قلبك الزاه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يا مُنقِذ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كي أستريح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1844640"/>
            <a:ext cx="5580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واملك أنتَ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في قلبي الواهي واجعلْهُ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بالحبِ جريح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-</cp:lastModifiedBy>
  <dcterms:modified xsi:type="dcterms:W3CDTF">2003-01-08T07:34:51Z</dcterms:modified>
  <cp:revision>5</cp:revision>
  <dc:subject/>
  <dc:title>PowerPoint Presentation</dc:title>
</cp:coreProperties>
</file>